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1FE-73ED-464B-8FFD-1FD67C70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BC1-60A7-493F-9EA1-FB6170E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FD2-274E-4234-AE86-840611BE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6EB-9876-474F-A3C7-18B05CCE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FAA0-31DD-4162-AE8E-35AF4AA8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2864-4FF4-47F4-A065-FA7F4971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9E8E-B8AE-45A1-ABA9-51518F84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344-12E5-464E-AF6E-453024A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5F08-3598-4577-80D6-F2EA70C4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BC3B-2779-4598-8FD3-0C632202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1211-C602-4BC4-A7BA-A545BAE5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BA5-9A37-4821-95EF-1C66CC0A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F7F2-5357-4744-8F80-CE5A4B5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C513-26C6-4975-8B11-182B79F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0BC7-CAA8-4389-8B60-53E95A75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7A51-574F-4BF9-800B-C51333CF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7EAA-2553-495F-A61B-0513E194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0A6-013B-4454-A952-AF43EDA2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AE6-AA1C-48D9-80AA-EF028D2E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F6E-8083-4751-8875-0178CAFA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ED2-51AE-4E75-AF59-CDE74AAA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603-64E9-465C-B85D-A812CA69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160-16E6-49D6-BEC6-71B9FD2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219-DCB3-41E4-9B1A-8D252B2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5A4B-5806-48C1-919D-80DED82FAF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DDA8-21F4-475F-AFDE-64DD035626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58-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gs.4:42 – 6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609480"/>
            <a:ext cx="3048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s of No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Jor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419360" y="1600200"/>
            <a:ext cx="1447560" cy="1522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362320" y="2438280"/>
            <a:ext cx="3504960" cy="99072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19520" y="3352680"/>
            <a:ext cx="3047760" cy="30492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Stories About Elish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eeds 100 men with 20 loaves – 2 Kgs.4:42-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eals Naaman of his leprosy – 2 Kings 5:1-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 – 5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tion – 2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nment – 6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easure – 9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ance –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dication – 15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Stories About Elish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an ax-head to float – 2 Kgs.6:1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inds and Traps Some Syrian Soldiers – 6:8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warnings to Israel upsets the Syrian attack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threatened by the Syrian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elieves God’s army is always big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inds the Syrian a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them to S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s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934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5105520" y="3809880"/>
            <a:ext cx="30456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sha Captures Syrians:  Dothan to 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6:38:22Z</dcterms:created>
  <dc:creator>Terry W. Benton</dc:creator>
  <dc:description/>
  <dc:language>en-US</dc:language>
  <cp:lastModifiedBy>Frank D Vines</cp:lastModifiedBy>
  <dcterms:modified xsi:type="dcterms:W3CDTF">2005-08-09T13:29:54Z</dcterms:modified>
  <cp:revision>2</cp:revision>
  <dc:subject/>
  <dc:title>Till There Was No Remedy (The Divided Kingdom)</dc:title>
</cp:coreProperties>
</file>